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126A-0C5D-49E8-A37E-B75AA945A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5272-7094-4188-90F3-8ACF80A1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DEE3-6B4C-4C0E-BD2F-74B6B1DD3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BB38-B215-4D23-A734-65A78DDA9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E721-1462-4E95-B779-E5D880F8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4F33-5B5E-4976-9746-0A4A9054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5A2B-8330-42B8-8F00-024871DE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F7DC-3E5D-4E4C-A381-C2835210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845A-0B54-449A-AA8C-42190000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A6B3-75CE-4B67-87BE-8193380F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FDED-08C3-472C-ACCA-789E52E8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EA0E-F24F-4B7E-9F42-F8A0D834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A155-3D04-4FD0-BC53-00C0F008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5D24-C5D2-48FE-9382-B1D4ECC6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6178-52FE-4938-B7C2-219263A3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CB2E-4EE7-4DE2-8A1E-63C619629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66D3-D51B-48C6-9E1B-6FE335049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C811-3AEE-4448-84DA-ECA70BB0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D964-4652-49E7-98A6-931F00FF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9CD1-B3E8-45ED-A7A2-EA26F528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3FFD-EE9F-4F84-86F7-9AA25BB5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2D96-1203-4919-AB5F-A8E620E6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53E4-B9C9-46D0-9886-D825B761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EBA2-D541-4755-96F6-3F56A4B6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9000-61CE-4D25-9B5A-58F876FF84F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4A04-5266-4689-ABEE-968C6A2BE78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acticum’s Wonderful Teaching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y: Nicholas Doy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ackward Desig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use it to make sure it is clear what topic we want to addres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rking backwards helps keep things in ord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ifferenti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t may had been stressfu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arned that there are 8 MI’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must be addressed when teachin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45720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ifferenti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d a good idea of adding music to my clas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rprised that there were so many mor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esired Resul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4038480" cy="30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scovered new and different ways to ass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8320" y="3047760"/>
            <a:ext cx="4038480" cy="30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ic Life, IMovie, GarageBand, simple rubric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esired Resul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4038480" cy="30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t we all know how we get some of those resul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979880" y="1600200"/>
            <a:ext cx="3375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rted at believing teaching was only done by writing on the boa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d a fear of talking in front of peop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ded at knowing that to reach every student, which is my goal, I need to teach in ways that are different from lecturin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w I have no problem talking with all eyes on m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06:38:38Z</dcterms:created>
  <dc:creator>Student</dc:creator>
  <dc:description/>
  <dc:language>en-US</dc:language>
  <cp:lastModifiedBy>Student</cp:lastModifiedBy>
  <dcterms:modified xsi:type="dcterms:W3CDTF">2008-04-10T12:55:16Z</dcterms:modified>
  <cp:revision>8</cp:revision>
  <dc:subject/>
  <dc:title>Practicum’s Wonderful Teachings</dc:title>
</cp:coreProperties>
</file>